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E73-1E01-4C91-BF79-5DAF6E40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4F6-6EC1-4A3C-B22E-BCFF3F2C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8DE-0EED-4F96-A90B-DD437C7A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81B-531D-45E0-B9D0-477F801C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0FB-E585-4C5E-8624-A02D7450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434-3751-4093-BF26-83386DD3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668-CFEE-4B9E-A75B-34695BA1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4EF-D863-4546-901C-ADB9490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546-537B-4EF9-B52A-7F271F5B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E1F-E278-422B-B6F0-604D06A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594-4A5D-4D24-894D-81C3A6C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EDB-6691-4DFC-9B31-77BB5F4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fld id="{AC68B029-FCCA-4B1C-A706-9933A48933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30492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L : SYNTHESE DU C/RENDU D'EPREUVE PRA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2960" y="965160"/>
            <a:ext cx="8580600" cy="587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160" y="11160"/>
            <a:ext cx="828720" cy="145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211960" y="4680"/>
            <a:ext cx="930600" cy="136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05440" y="6597720"/>
            <a:ext cx="1657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PLRevisionSections_2_4_5.p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744-C258-432D-8E3D-EBF0AD67DB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744560"/>
            <a:ext cx="5076720" cy="278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4200" y="909720"/>
            <a:ext cx="309240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garder DEHORS Pu &amp; Vi sécurité 45° &gt; 73Kt (Vs 56Kt  x 1.3) Soigner la sortie et réduction gaz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i engagé :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/Réduire Pu  2/ Annuler l’Inclinaison (Manche+Pal.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3/ Ressource palier 4/ Pu progressive pas avant Vi croisière</a:t>
            </a:r>
            <a:br>
              <a:rPr sz="800"/>
            </a:br>
            <a:r>
              <a:rPr b="0" i="1" lang="fr-FR" sz="800" spc="-1" strike="noStrike">
                <a:solidFill>
                  <a:srgbClr val="000000"/>
                </a:solidFill>
                <a:latin typeface="Arial"/>
              </a:rPr>
              <a:t>Attention : VNE &amp; sur-régime hélice 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38640" y="1859040"/>
            <a:ext cx="148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se en charge possible des COMS par le test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2182680"/>
            <a:ext cx="147636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ubrique [Tr]ranspar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363760"/>
            <a:ext cx="147636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[Tr] 70 Kt [Pente max 60 Kt]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enue Vi en virage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aisser accélérer av. rédu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795760"/>
            <a:ext cx="1476360" cy="1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[Tr]Sécurité sorties préci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0" y="3449520"/>
            <a:ext cx="15195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erte mini d'altitude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. Decr=RdG au 1</a:t>
            </a:r>
            <a:r>
              <a:rPr b="0" lang="fr-FR" sz="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signe avertisseur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imu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dernier vi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imulation d'un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rrondi trop h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3600" y="3233880"/>
            <a:ext cx="14814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Judicieux après 2g (Décr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08520" y="1258920"/>
            <a:ext cx="1017360" cy="1819080"/>
          </a:xfrm>
          <a:custGeom>
            <a:avLst/>
            <a:gdLst/>
            <a:ahLst/>
            <a:rect l="l" t="t" r="r" b="b"/>
            <a:pathLst>
              <a:path w="695" h="1337">
                <a:moveTo>
                  <a:pt x="592" y="1337"/>
                </a:moveTo>
                <a:lnTo>
                  <a:pt x="695" y="1337"/>
                </a:lnTo>
                <a:lnTo>
                  <a:pt x="695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62600" y="328680"/>
            <a:ext cx="402408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ES lent :entre 1.1 &amp; 1.2 Vs [C150 V0° entre 52 &amp; 56Kt pour Vs=47]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 ligne droite ET virages (Inclinaison minime &amp; ajust. Gaz permanent)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1.1 Vs … laisser sonner et continuer l'exercice!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onfig volets demandées : lisse + 1 autre (si V20° entre 48 &amp; 53Kt pour Vs=4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7720" y="2982960"/>
            <a:ext cx="14666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30840" y="1155600"/>
            <a:ext cx="2130480" cy="2217960"/>
          </a:xfrm>
          <a:custGeom>
            <a:avLst/>
            <a:gdLst/>
            <a:ahLst/>
            <a:rect l="l" t="t" r="r" b="b"/>
            <a:pathLst>
              <a:path w="1337" h="1571">
                <a:moveTo>
                  <a:pt x="0" y="1571"/>
                </a:moveTo>
                <a:lnTo>
                  <a:pt x="98" y="1571"/>
                </a:lnTo>
                <a:lnTo>
                  <a:pt x="98" y="65"/>
                </a:lnTo>
                <a:lnTo>
                  <a:pt x="1337" y="65"/>
                </a:lnTo>
                <a:lnTo>
                  <a:pt x="133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2040" y="1357200"/>
            <a:ext cx="3998880" cy="344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célération en palier : au décrochage "complet" (*) :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/ afficher assiette d'API (APproche Interrompue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/ plein gaz en contrant les effets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3/ accélération vers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initiaux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(*) A la perte de contrôle autour d'un axe (ou manche butée AR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ssiette de RdG (capot presque sur Hn) en rendant la main. </a:t>
            </a:r>
            <a:br>
              <a:rPr sz="800"/>
            </a:b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roche du Décr. En virage 20° avec V10° ou 20° [faire après (iii)]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'est comme (iii) mais en virage en descente …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…sauf qu'on réduit l'INCLINAISON avant la RdG</a:t>
            </a:r>
            <a:br>
              <a:rPr sz="800"/>
            </a:b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stuce : une fois établi sur la trajectoire (vir./desc.)  "arrondir" en maintenant l'inclinaison avec réduction complète de la Pu et variation d'assiette à cabrer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au 1</a:t>
            </a:r>
            <a:r>
              <a:rPr b="0" lang="fr-FR" sz="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signe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iles à PLAT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BLOQUER assiette + Pu MAX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+ traj. ascendante (ou palier suivant demande) + gérer les  volets.</a:t>
            </a:r>
            <a:br>
              <a:rPr sz="800"/>
            </a:b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roche du Décr. en config ATT (V20° ou + [*]) en ligne droite la + simple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/ vol stabilisé en DESC (ex. V20°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/ décélération lente (Pu→0) en MAINTENANT la trajectoire (d° arrondi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3/ au 1</a:t>
            </a:r>
            <a:r>
              <a:rPr b="0" lang="fr-FR" sz="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signe avertisseur du Décr. BLOQUER l'ASSIETTE (inutile d'augmenter l'incidence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4/ Pu MAX 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5/ accélérer sur une trajectoire ascendante ou palier (suiv. demande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ans oublier de gérer la rentrée des vole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46680" y="3710160"/>
            <a:ext cx="2160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00" y="225360"/>
            <a:ext cx="42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THESE SECTION 2 : Maniabilité P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0960" y="5429160"/>
          <a:ext cx="4278240" cy="973080"/>
        </p:xfrm>
        <a:graphic>
          <a:graphicData uri="http://schemas.openxmlformats.org/drawingml/2006/table">
            <a:tbl>
              <a:tblPr/>
              <a:tblGrid>
                <a:gridCol w="1068120"/>
                <a:gridCol w="1071720"/>
                <a:gridCol w="1069920"/>
                <a:gridCol w="10684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xx/*1.3/*1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. 0° ou 20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. 40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. 60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0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48 /61/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54 /70/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66 /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0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44 /57/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49 /64/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61 /79/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40°(pour contrôl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 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12680" y="4978440"/>
            <a:ext cx="4908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150 Vi de décrochage : tableau simplifié.</a:t>
            </a:r>
            <a:br>
              <a:rPr sz="9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marque 1 Inclinaison 20° = Inclinaison 0° + 1 tout petit Kt  (les considérer comme identiques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marque 2 Volets V≈20° représente la sustentation max (à 1 &amp; 2  Kt près) le reste est de l'aérofr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54360" y="621180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c blanc = 85 Kt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            = 95Kt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no         = 107K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3600" y="4389480"/>
            <a:ext cx="4800600" cy="48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362400" y="4348080"/>
            <a:ext cx="1476360" cy="1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ubrique [Tr]ranspar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4529160"/>
            <a:ext cx="146700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7720" y="4697280"/>
            <a:ext cx="1476360" cy="1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ubrique [Tr]ranspar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65560" y="4927680"/>
            <a:ext cx="399096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ransparent et (iii) .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 stabilisé palier-croisièr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duction de Pu et Réchauff (pompe…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i 1.55 Vs 45° = 87Kt  incliner à 45°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enir assiette permettant de maintenir un Vi raisonnabl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eiller au Virage engagé (procédure de sortie connue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nvisager une descente de 1000 Ft envir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2400" y="4532400"/>
            <a:ext cx="1476360" cy="1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Descente dans un trou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38760" y="4606920"/>
            <a:ext cx="216000" cy="766800"/>
          </a:xfrm>
          <a:custGeom>
            <a:avLst/>
            <a:gdLst/>
            <a:ahLst/>
            <a:rect l="l" t="t" r="r" b="b"/>
            <a:pathLst>
              <a:path w="136" h="483">
                <a:moveTo>
                  <a:pt x="0" y="0"/>
                </a:moveTo>
                <a:lnTo>
                  <a:pt x="60" y="0"/>
                </a:lnTo>
                <a:lnTo>
                  <a:pt x="60" y="483"/>
                </a:lnTo>
                <a:lnTo>
                  <a:pt x="136" y="483"/>
                </a:lnTo>
              </a:path>
            </a:pathLst>
          </a:custGeom>
          <a:noFill/>
          <a:ln w="158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4600" y="9360"/>
            <a:ext cx="882360" cy="11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610240" y="6172200"/>
            <a:ext cx="33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0000"/>
                </a:solidFill>
                <a:latin typeface="Arial"/>
              </a:rPr>
              <a:t>[*] Certains instructeurs considèrent que la Config. ATT c'est obligatoirement </a:t>
            </a:r>
            <a:r>
              <a:rPr b="1" i="1" lang="en-US" sz="800" spc="-1" strike="noStrike">
                <a:solidFill>
                  <a:srgbClr val="ff0000"/>
                </a:solidFill>
                <a:latin typeface="Arial"/>
              </a:rPr>
              <a:t>Volets Max</a:t>
            </a:r>
            <a:r>
              <a:rPr b="0" i="1" lang="en-US" sz="800" spc="-1" strike="noStrike">
                <a:solidFill>
                  <a:srgbClr val="ff0000"/>
                </a:solidFill>
                <a:latin typeface="Arial"/>
              </a:rPr>
              <a:t> alors que le Manuel de Vol stipule "à la demande" . S'adapter mais attention à la gestion des volets en RDG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791-6AC0-4412-8172-352A69842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78600" y="781200"/>
            <a:ext cx="3828960" cy="190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1040" y="816120"/>
            <a:ext cx="44784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rivées/Intégrations sur aérodromes contrôlés et non contrôlés (1 de chaque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 testeur ne poussera pas à prendre une trajectoire directe ni à en dissuader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Bien préparer sa stratégie d'arrivée en fonction des altitudes terrain/tdp/limitations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 plus délicat : terrains avec AFIS activé (revoir la fiche du cours Réglementation)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marq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a négociation spontanée d'une intégration en finale ou en base chaque fois que possible sera un élément d'appréciation posi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8960" y="1938240"/>
            <a:ext cx="446904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terrissages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de précision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(terrain court) : se poser tout près du point d'aboutissement préalablement indiqué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roche 1.3 Vs bien stabilisée. Décision de RdG A TEMPS par le candidat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reinage efficace sans bloquer (pour bien en juger on demande souvent un arrêt COMPLE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terrissages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vent de traver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si les conditions le permettent!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tention : faire ANNONCE déroutement si vent traversier maxi dépassé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3060720"/>
            <a:ext cx="446904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terrissages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ans volets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[C150  : 68-70Kt]                                        [61+ 5 = 66]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ontrer qu'on prend 1.45 Vs en V/AR et BASE, puis 1.3 Vs en FINALE 5+(Kve éventuel)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tention!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NNONCE à faire sur la nouvelle distance d'atterrissage: doit rester compatible avec la LDA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(Normalement majoration de 50% de la distance habituelle).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[MV C150 tout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réduit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V40° 15 m&amp; Roul = 328m sécurité x1.5=492m soit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500m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(Roul.= 136m)]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[Si maintien du plan 5% : 15m seuls =300m+ Roul.136m = 436m*1.5=654m soit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]</a:t>
            </a:r>
            <a:br>
              <a:rPr sz="800"/>
            </a:br>
            <a:r>
              <a:rPr b="0" i="1" lang="fr-FR" sz="800" spc="-1" strike="noStrike">
                <a:solidFill>
                  <a:srgbClr val="000000"/>
                </a:solidFill>
                <a:latin typeface="Arial"/>
              </a:rPr>
              <a:t>Remarq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Arial"/>
              </a:rPr>
              <a:t>Parfois à la base d'un thème de déroutement vers une piste plus long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 sera normalement aussi un atterrissage COMPLET pour constater la longueu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440" y="4670280"/>
            <a:ext cx="4468680" cy="9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che moteur au ralenti  : PTU PTL PTE … Le candidat doit pouvoir se poser si l'exercice à lieu sur un terrain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tion à la VFE et …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 si le vent est fort NE PAS SE PRECIPITER SUR LES VOLETS (qu'on ne pourra pas rentrer une fois sortis!)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rcice pouvant être combiné avec 5b (panne en campag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920" y="5783400"/>
            <a:ext cx="44686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ouch &amp; Go sans aide. Le candidat doit savoir prendre la décision d'interrompre si trop long,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configurer sa machine (une fois l'avion contrôlé et sans s'endormir le nez dans le cockpit)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6120" y="6296040"/>
            <a:ext cx="444024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dG à faible hauteur à partir d'une configuration ATTERRISSAGE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[sur C150 si V30°/40° imposés: P.G.+ ramener immédiatement V20° puis rentrée progressive avec 20% de sécurité par rapport à la configuration suivante]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29160" y="3046320"/>
            <a:ext cx="357840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s après le vol.  Vérifier :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batterie et magnétos sont bien coupée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vion sécuris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nseignement du carnet de route et clôture éventuelle du plan de vol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908840" y="4259160"/>
            <a:ext cx="1235160" cy="216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4786200" y="1076400"/>
            <a:ext cx="409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6200" y="1343160"/>
            <a:ext cx="419040" cy="1123920"/>
          </a:xfrm>
          <a:custGeom>
            <a:avLst/>
            <a:gdLst/>
            <a:ahLst/>
            <a:rect l="l" t="t" r="r" b="b"/>
            <a:pathLst>
              <a:path w="288" h="708">
                <a:moveTo>
                  <a:pt x="288" y="0"/>
                </a:moveTo>
                <a:lnTo>
                  <a:pt x="60" y="0"/>
                </a:lnTo>
                <a:lnTo>
                  <a:pt x="60" y="708"/>
                </a:lnTo>
                <a:lnTo>
                  <a:pt x="0" y="7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1628640"/>
            <a:ext cx="419040" cy="1704960"/>
          </a:xfrm>
          <a:custGeom>
            <a:avLst/>
            <a:gdLst/>
            <a:ahLst/>
            <a:rect l="l" t="t" r="r" b="b"/>
            <a:pathLst>
              <a:path w="264" h="1074">
                <a:moveTo>
                  <a:pt x="264" y="0"/>
                </a:moveTo>
                <a:lnTo>
                  <a:pt x="108" y="0"/>
                </a:lnTo>
                <a:lnTo>
                  <a:pt x="108" y="1074"/>
                </a:lnTo>
                <a:lnTo>
                  <a:pt x="0" y="107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67120" y="1905120"/>
            <a:ext cx="419400" cy="3124080"/>
          </a:xfrm>
          <a:custGeom>
            <a:avLst/>
            <a:gdLst/>
            <a:ahLst/>
            <a:rect l="l" t="t" r="r" b="b"/>
            <a:pathLst>
              <a:path w="264" h="1968">
                <a:moveTo>
                  <a:pt x="264" y="0"/>
                </a:moveTo>
                <a:lnTo>
                  <a:pt x="162" y="0"/>
                </a:lnTo>
                <a:lnTo>
                  <a:pt x="162" y="1968"/>
                </a:lnTo>
                <a:lnTo>
                  <a:pt x="0" y="19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38680" y="2104920"/>
            <a:ext cx="457200" cy="3867120"/>
          </a:xfrm>
          <a:custGeom>
            <a:avLst/>
            <a:gdLst/>
            <a:ahLst/>
            <a:rect l="l" t="t" r="r" b="b"/>
            <a:pathLst>
              <a:path w="288" h="2436">
                <a:moveTo>
                  <a:pt x="288" y="0"/>
                </a:moveTo>
                <a:lnTo>
                  <a:pt x="204" y="6"/>
                </a:lnTo>
                <a:lnTo>
                  <a:pt x="204" y="2436"/>
                </a:lnTo>
                <a:lnTo>
                  <a:pt x="0" y="24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0240" y="2257560"/>
            <a:ext cx="476280" cy="4190760"/>
          </a:xfrm>
          <a:custGeom>
            <a:avLst/>
            <a:gdLst/>
            <a:ahLst/>
            <a:rect l="l" t="t" r="r" b="b"/>
            <a:pathLst>
              <a:path w="300" h="2640">
                <a:moveTo>
                  <a:pt x="300" y="0"/>
                </a:moveTo>
                <a:lnTo>
                  <a:pt x="258" y="0"/>
                </a:lnTo>
                <a:lnTo>
                  <a:pt x="258" y="2640"/>
                </a:lnTo>
                <a:lnTo>
                  <a:pt x="0" y="2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29200" y="26668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14520" y="19044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THESE SECTION 4 : Procédures d'approche &amp; atterr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3680" y="485640"/>
            <a:ext cx="3819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 Certains de ces exercices peuvent être combinés à l'appréciation de l'examinateur (F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76880" y="5699160"/>
            <a:ext cx="25938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Arial"/>
              </a:rPr>
              <a:t>Toujours faire un briefing ATTERRISSAGE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fr-FR" sz="900" spc="-1" strike="noStrike">
                <a:solidFill>
                  <a:srgbClr val="ff0000"/>
                </a:solidFill>
                <a:latin typeface="Arial"/>
              </a:rPr>
              <a:t>- CONFIGURATION retenue</a:t>
            </a:r>
            <a:br>
              <a:rPr sz="900"/>
            </a:br>
            <a:r>
              <a:rPr b="1" lang="fr-FR" sz="900" spc="-1" strike="noStrike">
                <a:solidFill>
                  <a:srgbClr val="ff0000"/>
                </a:solidFill>
                <a:latin typeface="Arial"/>
              </a:rPr>
              <a:t>  - point d'ABOUTISSEMENT</a:t>
            </a:r>
            <a:br>
              <a:rPr sz="900"/>
            </a:br>
            <a:r>
              <a:rPr b="1" lang="fr-FR" sz="900" spc="-1" strike="noStrike">
                <a:solidFill>
                  <a:srgbClr val="ff0000"/>
                </a:solidFill>
                <a:latin typeface="Arial"/>
              </a:rPr>
              <a:t>  - à 100 Ft/sol DECISION (Att./Rd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408-9B12-426F-9482-F76B91108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912" b="0"/>
          <a:stretch/>
        </p:blipFill>
        <p:spPr>
          <a:xfrm>
            <a:off x="5224320" y="2457360"/>
            <a:ext cx="3794400" cy="162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160" y="657360"/>
            <a:ext cx="47880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imulation de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anne moteur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à 500 Ft /sol mini pour être démonstratif :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tentant de revenir vers la piste (ne pas succomber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à cette altitude on peut annoncer une recherche de panne succincte et préparer un att.  forc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ortie de volets supportée par une bonne Vi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4160" y="120600"/>
            <a:ext cx="66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THESE SECTION 5 : Procédures anormales et d'u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440" y="1569960"/>
            <a:ext cx="4788000" cy="139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imulation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d'atterrissage forcé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tout simplement une panne en campagne. Rappel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Garder le contrôle de l'avion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Annoncer (et faire) une recherche de PANN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se diriger vers la ZONE favorable (dans l'esprit d'une vent arrière : d'où vient le vent?!!!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choisir le TERRAIN favorabl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donner l'ALERTE (phraséo d'urgence simulée, en fait item 5 e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PREPARER l'atterrissage forcé (configuration, portières, lunettes, coussins, …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 Remarques :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 1/ réglementairement 50m sol mini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/ peut permettre de valider l'item 4d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440" y="3218040"/>
            <a:ext cx="478800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imulation d'atterrissage de précaution (en fait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"interruption volontaire du vol"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Le candidat devra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chercher le TERRAIN le plus favor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aire une RECONNAISSANCE à h 300-500Ft 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                              (recette en 03-23-P2 Top 10s à 100 Kt=500m=OK [Kt/2=m/s]….) 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Donner l'ALERT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et PREPARER  l'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440" y="4322880"/>
            <a:ext cx="47880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Urgences simulées.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xemple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Feu moteur ou cellule, en vol ou au sol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Panne de systèmes divers (pompe à vide, instruments, etc…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Urgence médicale (peut servir à demander un déroutement)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Blocage de commande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Baisse de régime etc…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Plafond bas et diffus au décollage nécessitant la décision d'un TdP basse hauteur</a:t>
            </a:r>
            <a:br>
              <a:rPr sz="800"/>
            </a:b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CL réclame des "urgenceS simuléeS"  il en faut donc plus d'une mais pas trop (maxi 2) éventuellement réparties en fonctions d'opportunités durant le v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79960" y="628560"/>
            <a:ext cx="1495440" cy="126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19680" y="933480"/>
            <a:ext cx="428760" cy="2057400"/>
          </a:xfrm>
          <a:custGeom>
            <a:avLst/>
            <a:gdLst/>
            <a:ahLst/>
            <a:rect l="l" t="t" r="r" b="b"/>
            <a:pathLst>
              <a:path w="270" h="1296">
                <a:moveTo>
                  <a:pt x="270" y="1296"/>
                </a:moveTo>
                <a:lnTo>
                  <a:pt x="216" y="1296"/>
                </a:lnTo>
                <a:lnTo>
                  <a:pt x="21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8760" y="2228760"/>
            <a:ext cx="399960" cy="971640"/>
          </a:xfrm>
          <a:custGeom>
            <a:avLst/>
            <a:gdLst/>
            <a:ahLst/>
            <a:rect l="l" t="t" r="r" b="b"/>
            <a:pathLst>
              <a:path w="252" h="612">
                <a:moveTo>
                  <a:pt x="252" y="612"/>
                </a:moveTo>
                <a:cubicBezTo>
                  <a:pt x="238" y="612"/>
                  <a:pt x="224" y="612"/>
                  <a:pt x="210" y="612"/>
                </a:cubicBezTo>
                <a:lnTo>
                  <a:pt x="132" y="612"/>
                </a:lnTo>
                <a:lnTo>
                  <a:pt x="132" y="0"/>
                </a:lnTo>
                <a:lnTo>
                  <a:pt x="0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838400" y="341964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48120" y="3657600"/>
            <a:ext cx="400320" cy="1380960"/>
          </a:xfrm>
          <a:custGeom>
            <a:avLst/>
            <a:gdLst/>
            <a:ahLst/>
            <a:rect l="l" t="t" r="r" b="b"/>
            <a:pathLst>
              <a:path w="252" h="870">
                <a:moveTo>
                  <a:pt x="252" y="0"/>
                </a:moveTo>
                <a:lnTo>
                  <a:pt x="132" y="0"/>
                </a:lnTo>
                <a:lnTo>
                  <a:pt x="132" y="870"/>
                </a:lnTo>
                <a:lnTo>
                  <a:pt x="0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94280" y="4684680"/>
            <a:ext cx="1619280" cy="15462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467480" y="4676760"/>
            <a:ext cx="1028880" cy="628560"/>
            <a:chOff x="7467480" y="4676760"/>
            <a:chExt cx="1028880" cy="628560"/>
          </a:xfrm>
        </p:grpSpPr>
        <p:sp>
          <p:nvSpPr>
            <p:cNvPr id="105" name=""/>
            <p:cNvSpPr/>
            <p:nvPr/>
          </p:nvSpPr>
          <p:spPr>
            <a:xfrm>
              <a:off x="7467480" y="4676760"/>
              <a:ext cx="1009800" cy="628560"/>
            </a:xfrm>
            <a:prstGeom prst="cloudCallout">
              <a:avLst>
                <a:gd name="adj1" fmla="val -45282"/>
                <a:gd name="adj2" fmla="val 409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3800" y="47815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'ai tout bien fait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urtant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238720" y="2209680"/>
            <a:ext cx="3819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 Certains de ces exercices peuvent être combinés à l'appréciation de l'examinateur (F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F6B-CD13-4328-A878-63731327F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0:31Z</dcterms:created>
  <dc:creator>user</dc:creator>
  <dc:description/>
  <dc:language>en-US</dc:language>
  <cp:lastModifiedBy>user</cp:lastModifiedBy>
  <dcterms:modified xsi:type="dcterms:W3CDTF">2009-03-10T12:15:44Z</dcterms:modified>
  <cp:revision>82</cp:revision>
  <dc:subject/>
  <dc:title>Diapositive 1</dc:title>
</cp:coreProperties>
</file>